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9.png" ContentType="image/png"/>
  <Override PartName="/ppt/media/image6.png" ContentType="image/png"/>
  <Override PartName="/ppt/media/image18.png" ContentType="image/png"/>
  <Override PartName="/ppt/media/image34.jpeg" ContentType="image/jpeg"/>
  <Override PartName="/ppt/media/image20.png" ContentType="image/png"/>
  <Override PartName="/ppt/media/image36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2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2EE9-1941-48E5-9F86-1F797A7C7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F634-82A4-4A72-A7B9-86C8BB14D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F31C-A587-4C2B-B2BD-57ECDD178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5F8C-DD05-4444-8A27-32B6AB2D3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40D-67DD-44AD-B6C9-D8BC6A3C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E1C-EF15-4282-A04D-D03886A5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704-ABE2-4EDC-AEAB-A72F8160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DF4-FF17-4A5E-A9E6-AAD91F9A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602E-4102-4BE2-AA14-B345427E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CEA0-BDC0-46A5-9430-AE30DBD4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00A6-BCC7-4840-B540-DA3A47AC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6517-35A7-4810-9971-E812ACB7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4BAF-4CCF-4E25-ABE6-B5C84497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ED7A-1D70-422A-85B2-71811560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25EC-1B20-4D12-B487-657CDFC1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963-8B41-463C-95EC-D504F151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0E2D-86B1-4720-A11F-7AA3DDF8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246B-43C7-4B6F-B9D8-A55FBC1C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B5BC-E5A9-4DBB-B594-709F51B8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418D-350E-483E-9397-2E4F0C7B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5963-4978-4017-9A9B-ED15284B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489E-8F90-4009-811B-5041FE7C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EB490-744F-417B-80A2-3423E4D8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75C56-4B42-496B-8533-85BC574A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52C97-7A35-48CA-A77B-63B9EF04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1733F-6673-43B9-9B95-2A231953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759-8F1E-4ABC-95E0-E8E4490D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EF1BD-D95A-4BED-B1E9-2BC70D22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200E7-F31F-4DDF-9C4B-1BD425E2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CBD75-D763-4AA5-9166-FC1DC02E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62506-93D3-4604-81E4-B8127DAE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1EC14-2156-4179-8FF2-8347C34B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A9F53-0C5B-45B7-BDA2-9F0C667C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CDD4-4B64-417F-B763-4FDCC964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3553E-0990-4703-AFCB-2E738CCE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144BA-E4CD-4CB8-A59E-D57B22F9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19EFE-4123-4D8A-B346-4792DBF4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B2E-E127-4C03-A5D0-D41865B1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D1E82-A6A0-4810-A3B4-238AC12D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295F7-4408-4056-ACA9-8D974426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180D7-EF8B-46C7-958A-7B5DD5AE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1F0EB-14A1-403D-811C-6E1DEB0A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04007-B784-47B2-AF16-48BEA71E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1DE90-D35B-42C5-A809-BCBC7B84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E0BAB-4A4B-4F28-B9DC-F7E0D2F8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7CCD1-D944-456E-BA14-42889E74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F18A-8845-4403-B95E-C63685CC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C24-C7F2-4AE1-AC3F-D7CAADC7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07F-1ECE-4430-887B-1B5F21BC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BB0-422C-4EC0-830D-00E4798B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D8E-C49D-4E4D-B395-0758C66E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F00-D290-4E91-94D5-FFA4CB29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C64C-422F-4D3D-98B0-BDBD28262CC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C8AA-6CD0-4637-8128-3A400CBE165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BF7F-05E3-4FCF-B296-69DA1CC6F9D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E406-02F5-48FD-BA39-1EC4C02DFE1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ikipedia.com/" TargetMode="External"/><Relationship Id="rId2" Type="http://schemas.openxmlformats.org/officeDocument/2006/relationships/hyperlink" Target="http://www.mathwork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21" descr=""/>
          <p:cNvPicPr/>
          <p:nvPr/>
        </p:nvPicPr>
        <p:blipFill>
          <a:blip r:embed="rId1"/>
          <a:stretch/>
        </p:blipFill>
        <p:spPr>
          <a:xfrm>
            <a:off x="523800" y="1073160"/>
            <a:ext cx="83282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requency-Domain Filters for sharpening  of imag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deal high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tterworth high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aussian high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304920" y="1676520"/>
                <a:ext cx="300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  if 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r>
                                <m:t xml:space="preserve">)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    if 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r>
                                <m:t xml:space="preserve">)</m:t>
                              </m:r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304920" y="3581280"/>
                <a:ext cx="2982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1"/>
              <p:cNvSpPr txBox="1"/>
              <p:nvPr/>
            </p:nvSpPr>
            <p:spPr>
              <a:xfrm>
                <a:off x="457200" y="5486400"/>
                <a:ext cx="3121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45" name="Picture 12" descr=""/>
          <p:cNvPicPr/>
          <p:nvPr/>
        </p:nvPicPr>
        <p:blipFill>
          <a:blip r:embed="rId1"/>
          <a:stretch/>
        </p:blipFill>
        <p:spPr>
          <a:xfrm>
            <a:off x="3581280" y="114300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"/>
          <p:cNvPicPr/>
          <p:nvPr/>
        </p:nvPicPr>
        <p:blipFill>
          <a:blip r:embed="rId2"/>
          <a:stretch/>
        </p:blipFill>
        <p:spPr>
          <a:xfrm>
            <a:off x="5486400" y="1143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"/>
          <p:cNvPicPr/>
          <p:nvPr/>
        </p:nvPicPr>
        <p:blipFill>
          <a:blip r:embed="rId3"/>
          <a:stretch/>
        </p:blipFill>
        <p:spPr>
          <a:xfrm>
            <a:off x="7238880" y="10666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"/>
          <p:cNvPicPr/>
          <p:nvPr/>
        </p:nvPicPr>
        <p:blipFill>
          <a:blip r:embed="rId4"/>
          <a:stretch/>
        </p:blipFill>
        <p:spPr>
          <a:xfrm>
            <a:off x="3733920" y="31240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6" descr=""/>
          <p:cNvPicPr/>
          <p:nvPr/>
        </p:nvPicPr>
        <p:blipFill>
          <a:blip r:embed="rId5"/>
          <a:stretch/>
        </p:blipFill>
        <p:spPr>
          <a:xfrm>
            <a:off x="5486400" y="3124080"/>
            <a:ext cx="1697040" cy="1676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"/>
          <p:cNvPicPr/>
          <p:nvPr/>
        </p:nvPicPr>
        <p:blipFill>
          <a:blip r:embed="rId6"/>
          <a:stretch/>
        </p:blipFill>
        <p:spPr>
          <a:xfrm>
            <a:off x="7238880" y="297180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8" descr=""/>
          <p:cNvPicPr/>
          <p:nvPr/>
        </p:nvPicPr>
        <p:blipFill>
          <a:blip r:embed="rId7"/>
          <a:stretch/>
        </p:blipFill>
        <p:spPr>
          <a:xfrm>
            <a:off x="3733920" y="50292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"/>
          <p:cNvPicPr/>
          <p:nvPr/>
        </p:nvPicPr>
        <p:blipFill>
          <a:blip r:embed="rId8"/>
          <a:stretch/>
        </p:blipFill>
        <p:spPr>
          <a:xfrm>
            <a:off x="5486400" y="510552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0" descr=""/>
          <p:cNvPicPr/>
          <p:nvPr/>
        </p:nvPicPr>
        <p:blipFill>
          <a:blip r:embed="rId9"/>
          <a:stretch/>
        </p:blipFill>
        <p:spPr>
          <a:xfrm>
            <a:off x="7238880" y="4952880"/>
            <a:ext cx="1905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Example of Gaussian High pass filter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8240" y="13716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dge detection is performed here. The cells shape is visible clearly after  Gaussian high pass filter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original image                    high pass filtered image (Do=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3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Picture 15" descr="1.bmp.jpg"/>
          <p:cNvPicPr/>
          <p:nvPr/>
        </p:nvPicPr>
        <p:blipFill>
          <a:blip r:embed="rId1"/>
          <a:stretch/>
        </p:blipFill>
        <p:spPr>
          <a:xfrm>
            <a:off x="380880" y="3200400"/>
            <a:ext cx="3838680" cy="3390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2.png"/>
          <p:cNvPicPr/>
          <p:nvPr/>
        </p:nvPicPr>
        <p:blipFill>
          <a:blip r:embed="rId2"/>
          <a:stretch/>
        </p:blipFill>
        <p:spPr>
          <a:xfrm>
            <a:off x="4800600" y="3200400"/>
            <a:ext cx="38098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Implementation Spatial domain filtering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operation is performed directly on the pixels of an image, then is called Spatial Domain Filter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operation is performed 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put image by a suitable transf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ction we get the required outp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15" descr="Picture2.png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472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685800" y="4419720"/>
                <a:ext cx="32767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patial domain filtering through High Boost filter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boost filtering is a generalization of Unsharp Mask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sharp Masking is simply a sharp image generated from blurred image of itself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Boost filtering generalizes this by multiplying f(x, y) b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 constant A , amplification fact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Rounded Rectangle 5"/>
          <p:cNvSpPr/>
          <p:nvPr/>
        </p:nvSpPr>
        <p:spPr>
          <a:xfrm>
            <a:off x="3352680" y="4648320"/>
            <a:ext cx="1600200" cy="5331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1905120" y="5486400"/>
                <a:ext cx="4465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2073240" y="2803680"/>
                <a:ext cx="42354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f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patial (TIME) domain filtering through High Boost filter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us, High-boost filtering gives us the flexibility to increase the contribution made by image to the enhanced im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iginal image                  high pass image(Do=30)      high-boost image(A=2.5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590920" cy="2743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/>
          <p:cNvPicPr/>
          <p:nvPr/>
        </p:nvPicPr>
        <p:blipFill>
          <a:blip r:embed="rId2"/>
          <a:stretch/>
        </p:blipFill>
        <p:spPr>
          <a:xfrm>
            <a:off x="6324480" y="373392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F:\mini project\programs\spider1.jpg"/>
          <p:cNvPicPr/>
          <p:nvPr/>
        </p:nvPicPr>
        <p:blipFill>
          <a:blip r:embed="rId3"/>
          <a:stretch/>
        </p:blipFill>
        <p:spPr>
          <a:xfrm>
            <a:off x="380880" y="3733920"/>
            <a:ext cx="259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Application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Medical imaging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Satellite imaging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Material testing in industries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Fingerprint identification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Printing and publishing industry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dvantages &amp; Disadvantag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t is simple and easy to implem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t provides flexibility in the design of filtering solu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person needs knowledge in many fields to develop an application using image process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ise cannot be eliminated completel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us,  image enhancement techniques in frequency domain improves the  desired features of an image based on the requirements of the applications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onzalez and Woods, </a:t>
            </a:r>
            <a:r>
              <a:rPr b="0" lang="en-US" sz="2800" spc="-1" strike="noStrike">
                <a:solidFill>
                  <a:srgbClr val="c00000"/>
                </a:solidFill>
                <a:latin typeface="Constantia"/>
              </a:rPr>
              <a:t>Digital Image Process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udra Pratap, </a:t>
            </a:r>
            <a:r>
              <a:rPr b="0" lang="en-US" sz="2800" spc="-1" strike="noStrike">
                <a:solidFill>
                  <a:srgbClr val="c00000"/>
                </a:solidFill>
                <a:latin typeface="Constantia"/>
              </a:rPr>
              <a:t>Getting Started With Matlab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.Ramesh Babu, </a:t>
            </a:r>
            <a:r>
              <a:rPr b="0" lang="en-US" sz="2800" spc="-1" strike="noStrike">
                <a:solidFill>
                  <a:srgbClr val="c00000"/>
                </a:solidFill>
                <a:latin typeface="Constantia"/>
              </a:rPr>
              <a:t>Digital Image Process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1"/>
              </a:rPr>
              <a:t>www.wikipedia.co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2"/>
              </a:rPr>
              <a:t>www.mathwork.co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rod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roduction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D Fourier transfor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ypes of Frequency -Domain fil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sic steps in Frequency-Domain filter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equency-Domain filters for smoothing of ima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equency-Domain filters for sharpening of ima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atial -Domain filtering through High Boost fil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c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vantages &amp; Disadvanta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clu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560" y="1371600"/>
            <a:ext cx="8381880" cy="5486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Image Enhancem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the process of making an image more pleasable than the original imag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Why neede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ise introduced in to the image, out-of focus , atmospheric conditions, latency of imaging hardwa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clip_image002.jpg"/>
          <p:cNvPicPr/>
          <p:nvPr/>
        </p:nvPicPr>
        <p:blipFill>
          <a:blip r:embed="rId1"/>
          <a:stretch/>
        </p:blipFill>
        <p:spPr>
          <a:xfrm>
            <a:off x="2819520" y="2666880"/>
            <a:ext cx="38098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troduction to 2-D Fourier transfo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52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D DFT of input image  f(x, y) is  given b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,  u=0,1,2……..M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;  v=0,1,2……..N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inverse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D DFT of output image F(u , v) is given b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,  x=0,1,2…….M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 y=0,1,2……..N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1295280" y="2057400"/>
                <a:ext cx="6201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πj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ux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y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1143000" y="5029200"/>
                <a:ext cx="62564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πj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ux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y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Basic steps in Frequency-Domain Filter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Oval 20"/>
          <p:cNvSpPr/>
          <p:nvPr/>
        </p:nvSpPr>
        <p:spPr>
          <a:xfrm>
            <a:off x="2514600" y="1600200"/>
            <a:ext cx="3733920" cy="1371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ncludes multiplication of  input/output images by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  <a:ea typeface="宋体"/>
              </a:rPr>
              <a:t>(-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nstantia"/>
                <a:ea typeface="宋体"/>
              </a:rPr>
              <a:t>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7165800" cy="3102120"/>
          </a:xfrm>
          <a:prstGeom prst="rect">
            <a:avLst/>
          </a:prstGeom>
          <a:ln w="0">
            <a:noFill/>
          </a:ln>
        </p:spPr>
      </p:pic>
      <p:cxnSp>
        <p:nvCxnSpPr>
          <p:cNvPr id="215" name="Shape 16"/>
          <p:cNvCxnSpPr>
            <a:endCxn id="213" idx="2"/>
          </p:cNvCxnSpPr>
          <p:nvPr/>
        </p:nvCxnSpPr>
        <p:spPr>
          <a:xfrm flipH="1" flipV="1" rot="5400000">
            <a:off x="685440" y="2819160"/>
            <a:ext cx="2363040" cy="1296000"/>
          </a:xfrm>
          <a:prstGeom prst="curved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6" name="Shape 18"/>
          <p:cNvCxnSpPr>
            <a:endCxn id="213" idx="6"/>
          </p:cNvCxnSpPr>
          <p:nvPr/>
        </p:nvCxnSpPr>
        <p:spPr>
          <a:xfrm flipV="1" rot="16200000">
            <a:off x="5905080" y="2628360"/>
            <a:ext cx="2286720" cy="1600920"/>
          </a:xfrm>
          <a:prstGeom prst="curved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re and Post processing step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is the spectrum origin is shifted to center  by multiplying  input  and output image with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宋体"/>
              </a:rPr>
              <a:t>(-1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  <a:ea typeface="宋体"/>
              </a:rPr>
              <a:t>x + 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9" descr="Picture6.png"/>
          <p:cNvPicPr/>
          <p:nvPr/>
        </p:nvPicPr>
        <p:blipFill>
          <a:blip r:embed="rId1"/>
          <a:stretch/>
        </p:blipFill>
        <p:spPr>
          <a:xfrm>
            <a:off x="685800" y="2590920"/>
            <a:ext cx="7869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ypes of Frequency-Domain Filter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Content Placeholder 3" descr=""/>
          <p:cNvPicPr/>
          <p:nvPr/>
        </p:nvPicPr>
        <p:blipFill>
          <a:blip r:embed="rId1"/>
          <a:stretch/>
        </p:blipFill>
        <p:spPr>
          <a:xfrm>
            <a:off x="60480" y="1670040"/>
            <a:ext cx="89503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requency-Domain  Filters for Smoothing of imag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deal Low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tterworth Low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aussian Low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388800" y="1676520"/>
                <a:ext cx="2725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    if 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r>
                                <m:t xml:space="preserve">)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  if 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r>
                                <m:t xml:space="preserve">)</m:t>
                              </m:r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380880" y="3581280"/>
                <a:ext cx="2590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457200" y="5638680"/>
                <a:ext cx="3108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27" name="Picture 7" descr="11.png"/>
          <p:cNvPicPr/>
          <p:nvPr/>
        </p:nvPicPr>
        <p:blipFill>
          <a:blip r:embed="rId1"/>
          <a:stretch/>
        </p:blipFill>
        <p:spPr>
          <a:xfrm>
            <a:off x="3581280" y="1219320"/>
            <a:ext cx="1676520" cy="1616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12.png"/>
          <p:cNvPicPr/>
          <p:nvPr/>
        </p:nvPicPr>
        <p:blipFill>
          <a:blip r:embed="rId2"/>
          <a:stretch/>
        </p:blipFill>
        <p:spPr>
          <a:xfrm>
            <a:off x="5486400" y="12952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13.png"/>
          <p:cNvPicPr/>
          <p:nvPr/>
        </p:nvPicPr>
        <p:blipFill>
          <a:blip r:embed="rId3"/>
          <a:stretch/>
        </p:blipFill>
        <p:spPr>
          <a:xfrm>
            <a:off x="7467480" y="1219320"/>
            <a:ext cx="1676520" cy="1752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21.png"/>
          <p:cNvPicPr/>
          <p:nvPr/>
        </p:nvPicPr>
        <p:blipFill>
          <a:blip r:embed="rId4"/>
          <a:stretch/>
        </p:blipFill>
        <p:spPr>
          <a:xfrm>
            <a:off x="3581280" y="32004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22.png"/>
          <p:cNvPicPr/>
          <p:nvPr/>
        </p:nvPicPr>
        <p:blipFill>
          <a:blip r:embed="rId5"/>
          <a:stretch/>
        </p:blipFill>
        <p:spPr>
          <a:xfrm>
            <a:off x="5486400" y="3200400"/>
            <a:ext cx="1905120" cy="1832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23.png"/>
          <p:cNvPicPr/>
          <p:nvPr/>
        </p:nvPicPr>
        <p:blipFill>
          <a:blip r:embed="rId6"/>
          <a:stretch/>
        </p:blipFill>
        <p:spPr>
          <a:xfrm>
            <a:off x="7391520" y="312408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31.png"/>
          <p:cNvPicPr/>
          <p:nvPr/>
        </p:nvPicPr>
        <p:blipFill>
          <a:blip r:embed="rId7"/>
          <a:stretch/>
        </p:blipFill>
        <p:spPr>
          <a:xfrm>
            <a:off x="3505320" y="510552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32.png"/>
          <p:cNvPicPr/>
          <p:nvPr/>
        </p:nvPicPr>
        <p:blipFill>
          <a:blip r:embed="rId8"/>
          <a:stretch/>
        </p:blipFill>
        <p:spPr>
          <a:xfrm>
            <a:off x="5486400" y="51814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5" descr="33.png"/>
          <p:cNvPicPr/>
          <p:nvPr/>
        </p:nvPicPr>
        <p:blipFill>
          <a:blip r:embed="rId9"/>
          <a:stretch/>
        </p:blipFill>
        <p:spPr>
          <a:xfrm>
            <a:off x="7315200" y="495288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Example of Gaussian Low pass filter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宋体"/>
              </a:rPr>
              <a:t>Character recognition in machine perception join the broken character segments with a Gaussian low pass filter with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=8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489480" cy="3605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4952880" y="2895480"/>
            <a:ext cx="347976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2:47:38Z</dcterms:created>
  <dc:creator>Electronics Projects</dc:creator>
  <dc:description>Electronics Projects</dc:description>
  <dc:language>en-US</dc:language>
  <cp:lastModifiedBy>Brigade</cp:lastModifiedBy>
  <dcterms:modified xsi:type="dcterms:W3CDTF">2011-08-26T11:08:43Z</dcterms:modified>
  <cp:revision>0</cp:revision>
  <dc:subject>Electronics Projects</dc:subject>
  <dc:title>ECE IEEE Projects</dc:title>
</cp:coreProperties>
</file>